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005A-5830-4754-8EFE-BD034C60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5B16-B7F1-4426-9A1C-50CD6CD0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AD36-0292-4AAF-B511-C59B78A3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DAFB-8118-4A5C-BFF3-69053C587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2E16-BF59-46C4-A082-329BD76A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21D8-63D1-4F0C-B96E-98AEF603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2132-13A9-4F3B-8C82-108CBC0D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21ED-9DB6-4A1E-B02F-9674E0A5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1CD6-899E-4539-B306-4BF3D65F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8AB0-A995-4BF3-9C8D-6B074174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39C5-3CE5-44AF-B010-14EED97D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10A7-2EAC-4ACF-B0FB-F7B5E5D3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EA6E-BBC8-40F4-9A63-345108DD5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41 Chcem vždy Pán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slavova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z sa všetko pomi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ia láska nikdy ni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vždy Pána oslavo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mu spievať piesne chvá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mu Bohu vďaku vzdá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mi v Kristu všetko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veľká milosť je t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ma všade sprevádz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ňho pomoc nachádzam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nikom inom spásy niet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z sa všetko pomi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ia láska nikdy 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ko orlica si skrý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d krídlami mláďat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ia ruka milostiv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o mnou je rozpät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ma stráži svojím ok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ruku ma vedie vpre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ez prekážky, príval bie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lu dáva mojim krok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z sa všetko pomi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ia láska nikdy 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ušetril svojho Sy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l ho na smrť kvôli m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hladená je moja vi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je moje spas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, že nikdy nedocen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lásku nesmiernu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lasť mi chystá nádhernú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svete sa všetko m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0:08:39Z</dcterms:modified>
  <cp:revision>29</cp:revision>
  <dc:subject/>
  <dc:title>Je veľký náš Pán, on slávy je Kráľ Nech do všetkých strán  spev vrúcnych znie chvál.</dc:title>
</cp:coreProperties>
</file>